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517-F43A-49D5-8AAA-12C5B9A1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AF0-6F9C-4EA6-AB7F-1A3691D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9C6-6FBF-4602-8FB7-0799913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B9D-4470-4D81-ABA6-19863B10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23F-993A-440E-B40A-6FA6ECDC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78C-960C-4592-BBFC-A714F8D6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317-BD43-4470-8855-4EF2487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DD8-E464-4BB0-B98F-59C1E95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3BC-31DA-4431-A901-ABE4C84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9D9-581C-4366-9482-AF2C111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1D4-F289-416A-A1AD-75D50E0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7B6-33CF-44BC-A6A5-5FA5909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50D5-66E6-4AF0-B474-99CF1F3DDC4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5 Sobotný deň z veľkej lá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botný deň z veľk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oval nám Stvor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pevňuje naše zväz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kazuje vier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, chráni, tresta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k spáse stal sa dver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covské zve náruč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, Pane chceme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y úprimnej čuj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ilosti si neskonal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sa skláňaš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otroctva zapreda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si krížom vykúp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ľud hriechom poškvrn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svojou očis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k nám sa vrátiš z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ý to bud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sa zaskvie v novej krá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om zaznie chvál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obotný deň budú zn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úst piesne zn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cirkev Ježiš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u tvár už bude zrie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6:24Z</dcterms:modified>
  <cp:revision>12</cp:revision>
  <dc:subject/>
  <dc:title>Je veľký náš Pán, on slávy je Kráľ Nech do všetkých strán  spev vrúcnych znie chvál.</dc:title>
</cp:coreProperties>
</file>